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DFFC-C671-42D2-850A-D2B3046C9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FC95-F8DB-4120-814C-2AA0F5798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DFE4-6D54-46E3-9498-24610509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2CE6-4E76-4BF6-8369-3C266B791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69F4-3970-4473-8036-92112A30E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925C-2811-4627-987C-24F22AE2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C52B-7E18-409A-8A38-5D04BD21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6E0-AA02-47B9-95CE-BB01C560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6D1-A099-4FA4-8F69-D4EC530E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45B-ED14-4AE0-B9F6-2A94E31E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E69-6E60-446E-9C9F-8B2207DE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B5F2-C4FD-4F25-B7CF-11E91CE7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14D1-EDA9-40B0-884F-95A02BF4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CD71-7F69-4038-BC30-D199C043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BCF0-DEEE-45DE-B973-E4363401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E7E2-5ECD-4F47-A843-F5973B92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D387-4005-41B7-A093-3AA710D3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8E5F-7AA6-4216-A307-034E9BE3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078-438F-4293-9A0E-AB7CF030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E6C8-E3B6-4C53-BE57-E4E2DD90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DC5C-A929-4CA9-9D4C-B96B4279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D402-4D73-4C11-9150-C78EB9A8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33FF-220B-4C9E-B16A-8F5FD621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D4C4-E9F6-4E18-AD55-7A314D91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26BD-DE37-4B45-A205-1B6D002C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FDD0-BB70-4FA7-B9C4-5ABABE84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1065-C97E-480C-BE87-54E215C5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6AF1B-45B9-41B2-A9A9-A8DE772B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2C173-73A2-45AA-82BD-9BFA2C8D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558-BF68-42FC-A23C-791124C6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F8BB-EBB6-45FA-97FD-CA1D3263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764BD-48C0-4595-A1B8-4F3198EC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E680-02F8-4944-BAC8-91F3B06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404E8-4C2E-458C-9783-7DB5AEB4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043A-CE65-449A-BEA9-2ED47CC8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5393-8C3C-47F7-87BD-1010F909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DD52F-93C7-4078-B7FF-826AA7F9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923BF-64A0-4A75-89F0-74362C24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01C7C-5035-4819-AF9C-F3EFECE4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3B8B4-08BF-4F4B-B0B7-94C027BD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23E-D22A-4B9B-97D8-9756F1E6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9AF65-2A43-4C86-A1A6-D1F8A71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3AD03-F010-4421-93AE-7563E33D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60D198-D18D-4DA5-8323-CE7B262D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54FF8-E4CF-42C2-AF70-4CC8D4D0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86059-DBBD-4728-9A70-1349BDBA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8BC37-DFBE-42B4-BA31-6241CCC7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BE2CB-80D7-48E1-A180-F9E92A3F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7A8AA-41FE-4962-8DE5-551736AC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376E9-7A5F-40F5-9E84-02C52785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4D9EB-E4EA-4769-AD52-B1F3BB02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95A-77BF-4A30-9962-BE4E3512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3CB6-A430-4ED6-83EF-D096ECA7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839D3-9DA9-493F-A2B0-377CBA00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F233C-16C2-489C-BC08-B8294BDC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7036E-08C5-4D43-B0E7-F7AB3A9A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44A85-A8F5-454C-B937-429B1FFB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46A2E-BB2C-4DB5-A006-554417D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F56D8-6837-4E0A-AE14-A1EF9DD9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F305B-661D-4B06-9C39-C0AAC021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82CB9-E128-4E5D-919E-FC94DF55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5FA1F-6703-4BB8-83A9-8E609290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544-EA46-4AB7-ADB6-9272EA8C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1A3EE-D1A0-4A97-BF70-EA0681B6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3A7A3-0BC4-4A18-94DE-B900A0C0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3DA0A-E5C1-4776-8E96-3D329E16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51714-2848-4806-BE02-CC865F87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D9D30-5F2F-4E53-96FC-B5C0687C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A870C-18BA-46E7-8FBE-807C7B80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E26E3-376D-4CA9-BEE1-2E70AE19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AB27C-60EE-4339-8062-62A724B8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F85C5-8E4C-420A-BA04-FE627F6C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180E2-7CE8-473C-91D1-DD75031B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844-64F9-4FB9-AAEF-01D8B13D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0701E-5226-4D02-B4A7-8B465868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977BD-7D60-4C2A-8CD8-4FD39DF6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48CF0-30F8-42FE-89B0-8FBE413F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AAD03-51CA-4637-95E4-728356B7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F28B9-53B7-4FDF-9633-8A19D747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9C18C-4F99-4B02-B36D-318A9591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1D38F-E788-49BD-9562-B0BCEBCB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E2FBD-14B9-41FC-BFDF-F3610210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E59D7-E924-478B-923A-4C8E8779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87E84-47D2-469D-A5BD-6C23FE21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6EF-843B-4AB2-9771-8FE8DAD9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1905E-E19D-4608-9DB4-EEC91D69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80705-F36E-4947-95E9-24BCC717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823EB-49F0-47B4-BEFA-A192D88D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24943-7C57-4F4D-B40F-088995AB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55409-303E-4F23-A289-5F360C8C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D2A90F-9122-4443-8C9D-5A073892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6CB593-05C0-451E-8D04-C13069CC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E3AC15-C5E9-478C-AE67-060F22E2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852D94-6BD4-446A-8037-27D1575C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BF9431-7C81-4C64-A0E4-1C1DC8B8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E69-EB71-4381-A082-8A747BF1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E43276-181E-49B6-B32F-831E8A32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A950F-6DC3-423E-BC4E-661CC484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2EA705-C65F-45E8-B344-400108F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6030B-7365-40B0-A36B-9635021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37DB2-BD14-4CA7-BF3E-1C72CF8C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B1825E-538C-400B-BB71-B3814A1B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E81E38-2C11-4D0F-9D9E-D9B4B8C6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F6B2-596A-4DBF-8966-7A5B2AD30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27CE-D8DB-4FEB-8A1F-298CD8B0E2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EBF3-B8CE-42C8-8106-18E672AA0C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A9CC-3E10-440E-95F8-85A0EDE03A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8CCB-8917-41EB-8372-89C06F872F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6373-7469-4E64-9E9C-FA3DFF6844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4D24-272F-4DB5-AB62-F89F309770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B44C-FB34-4EA9-BBB7-BEF6D779B1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2   (5 Word Part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NYM, ONYMO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523880"/>
            <a:ext cx="3814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or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66720" y="167616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seudonym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seudo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alse; fake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onym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(sy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at the same time; like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onymo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cronym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nym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word or nam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onymo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tony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omony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6" descr="antonym.jpg"/>
          <p:cNvPicPr/>
          <p:nvPr/>
        </p:nvPicPr>
        <p:blipFill>
          <a:blip r:embed="rId1"/>
          <a:stretch/>
        </p:blipFill>
        <p:spPr>
          <a:xfrm>
            <a:off x="2819520" y="2362320"/>
            <a:ext cx="990360" cy="857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pseudonym.jpg"/>
          <p:cNvPicPr/>
          <p:nvPr/>
        </p:nvPicPr>
        <p:blipFill>
          <a:blip r:embed="rId2"/>
          <a:stretch/>
        </p:blipFill>
        <p:spPr>
          <a:xfrm>
            <a:off x="2286000" y="38862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acronym.jpg"/>
          <p:cNvPicPr/>
          <p:nvPr/>
        </p:nvPicPr>
        <p:blipFill>
          <a:blip r:embed="rId3"/>
          <a:stretch/>
        </p:blipFill>
        <p:spPr>
          <a:xfrm>
            <a:off x="533520" y="32004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anonmous.jpg"/>
          <p:cNvPicPr/>
          <p:nvPr/>
        </p:nvPicPr>
        <p:blipFill>
          <a:blip r:embed="rId4"/>
          <a:stretch/>
        </p:blipFill>
        <p:spPr>
          <a:xfrm>
            <a:off x="1295280" y="5181480"/>
            <a:ext cx="1162080" cy="1171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homonym.jpg"/>
          <p:cNvPicPr/>
          <p:nvPr/>
        </p:nvPicPr>
        <p:blipFill>
          <a:blip r:embed="rId5"/>
          <a:stretch/>
        </p:blipFill>
        <p:spPr>
          <a:xfrm>
            <a:off x="7010280" y="914400"/>
            <a:ext cx="159084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523880"/>
            <a:ext cx="3814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nace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norama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rama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view or a sight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ntheis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ndem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6" descr="pandemic.jpg"/>
          <p:cNvPicPr/>
          <p:nvPr/>
        </p:nvPicPr>
        <p:blipFill>
          <a:blip r:embed="rId1"/>
          <a:stretch/>
        </p:blipFill>
        <p:spPr>
          <a:xfrm>
            <a:off x="5334120" y="4572000"/>
            <a:ext cx="120960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panorama.jpg"/>
          <p:cNvPicPr/>
          <p:nvPr/>
        </p:nvPicPr>
        <p:blipFill>
          <a:blip r:embed="rId2"/>
          <a:stretch/>
        </p:blipFill>
        <p:spPr>
          <a:xfrm>
            <a:off x="762120" y="4800600"/>
            <a:ext cx="1981080" cy="1066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pantheism.jpg"/>
          <p:cNvPicPr/>
          <p:nvPr/>
        </p:nvPicPr>
        <p:blipFill>
          <a:blip r:embed="rId3"/>
          <a:stretch/>
        </p:blipFill>
        <p:spPr>
          <a:xfrm>
            <a:off x="2438280" y="2133720"/>
            <a:ext cx="1200240" cy="167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SS, PATH, PATH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99840"/>
            <a:ext cx="3814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eeling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ffer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mpass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thet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sychopath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sycho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mind; soul; lif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mpath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pathy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ele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ar; far off; from afar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tipath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path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6" descr="compassion.jpg"/>
          <p:cNvPicPr/>
          <p:nvPr/>
        </p:nvPicPr>
        <p:blipFill>
          <a:blip r:embed="rId1"/>
          <a:stretch/>
        </p:blipFill>
        <p:spPr>
          <a:xfrm>
            <a:off x="762120" y="30481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ompassionn.jpg"/>
          <p:cNvPicPr/>
          <p:nvPr/>
        </p:nvPicPr>
        <p:blipFill>
          <a:blip r:embed="rId2"/>
          <a:stretch/>
        </p:blipFill>
        <p:spPr>
          <a:xfrm>
            <a:off x="7086600" y="38088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psychopath.jpg"/>
          <p:cNvPicPr/>
          <p:nvPr/>
        </p:nvPicPr>
        <p:blipFill>
          <a:blip r:embed="rId3"/>
          <a:stretch/>
        </p:blipFill>
        <p:spPr>
          <a:xfrm>
            <a:off x="1600200" y="4876920"/>
            <a:ext cx="1371600" cy="1447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telepathy.jpg"/>
          <p:cNvPicPr/>
          <p:nvPr/>
        </p:nvPicPr>
        <p:blipFill>
          <a:blip r:embed="rId4"/>
          <a:stretch/>
        </p:blipFill>
        <p:spPr>
          <a:xfrm>
            <a:off x="3200400" y="3505320"/>
            <a:ext cx="152388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CT,OCTO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ant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nt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at which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ob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ahedr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opus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us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ot or feet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ogenaria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ill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6" descr="octant.jpg"/>
          <p:cNvPicPr/>
          <p:nvPr/>
        </p:nvPicPr>
        <p:blipFill>
          <a:blip r:embed="rId1"/>
          <a:stretch/>
        </p:blipFill>
        <p:spPr>
          <a:xfrm>
            <a:off x="609480" y="312408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octahedronn.jpg"/>
          <p:cNvPicPr/>
          <p:nvPr/>
        </p:nvPicPr>
        <p:blipFill>
          <a:blip r:embed="rId2"/>
          <a:stretch/>
        </p:blipFill>
        <p:spPr>
          <a:xfrm>
            <a:off x="3581280" y="4876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octaheron.jpg"/>
          <p:cNvPicPr/>
          <p:nvPr/>
        </p:nvPicPr>
        <p:blipFill>
          <a:blip r:embed="rId3"/>
          <a:stretch/>
        </p:blipFill>
        <p:spPr>
          <a:xfrm>
            <a:off x="2590920" y="2209680"/>
            <a:ext cx="1361880" cy="1352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october.jpg"/>
          <p:cNvPicPr/>
          <p:nvPr/>
        </p:nvPicPr>
        <p:blipFill>
          <a:blip r:embed="rId4"/>
          <a:stretch/>
        </p:blipFill>
        <p:spPr>
          <a:xfrm>
            <a:off x="1371600" y="4952880"/>
            <a:ext cx="1495440" cy="1447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octogenarian.jpg"/>
          <p:cNvPicPr/>
          <p:nvPr/>
        </p:nvPicPr>
        <p:blipFill>
          <a:blip r:embed="rId5"/>
          <a:stretch/>
        </p:blipFill>
        <p:spPr>
          <a:xfrm>
            <a:off x="6172200" y="49528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octopus.jpg"/>
          <p:cNvPicPr/>
          <p:nvPr/>
        </p:nvPicPr>
        <p:blipFill>
          <a:blip r:embed="rId6"/>
          <a:stretch/>
        </p:blipFill>
        <p:spPr>
          <a:xfrm>
            <a:off x="7086600" y="380880"/>
            <a:ext cx="1638360" cy="167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OV, NON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vennial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nnial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pertaining to so many year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agon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nona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nine) 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go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angle or corner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ill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Picture 6" descr="nonagon.jpg"/>
          <p:cNvPicPr/>
          <p:nvPr/>
        </p:nvPicPr>
        <p:blipFill>
          <a:blip r:embed="rId1"/>
          <a:stretch/>
        </p:blipFill>
        <p:spPr>
          <a:xfrm>
            <a:off x="6781680" y="6094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november.jpg"/>
          <p:cNvPicPr/>
          <p:nvPr/>
        </p:nvPicPr>
        <p:blipFill>
          <a:blip r:embed="rId2"/>
          <a:stretch/>
        </p:blipFill>
        <p:spPr>
          <a:xfrm>
            <a:off x="685800" y="4343400"/>
            <a:ext cx="320040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3-30T18:22:22Z</dcterms:modified>
  <cp:revision>33</cp:revision>
  <dc:subject/>
  <dc:title>Roots List #1</dc:title>
</cp:coreProperties>
</file>